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0B7D-177E-44F1-B5DB-BFEF9C07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A75-6EB1-47B4-B686-7E39A2AB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CDA-A987-4739-9BAA-313BC847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3D6E-665C-456B-BBFE-26CD8C54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91B-2703-4874-A383-545CEC8A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BA3E-C628-45E1-96AD-48CDA83D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D078-B59B-4E84-86ED-C7DEAD2C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DD7-3975-4135-AD5E-3BF0A262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DFE-80AC-41DB-9C77-9FDB8106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0598-4E6C-421D-826C-5318AE15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846-30EE-464F-B263-2316430C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DFA0-688F-43CE-BEC5-0A7B44FA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F199-0FE0-4837-A24F-663F2F9DE3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2209680"/>
            <a:ext cx="76960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ACĂ LUCREZI CORECT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33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EI AVEA O SURPRIZĂ PLĂCUTĂ 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33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380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XERSEAZĂ TABLA ÎNMULŢIRII 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19760" y="53341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88040" y="533412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7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5960" y="533412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24240" y="533412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6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3341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8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19760" y="42670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0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88040" y="4267080"/>
            <a:ext cx="14317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4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5960" y="42670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42670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19760" y="320040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3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88040" y="320040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55960" y="320040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24240" y="320040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4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20040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19760" y="21337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88040" y="213372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8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5960" y="213372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3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24240" y="213372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1337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19760" y="10666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88040" y="1066680"/>
            <a:ext cx="14317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55960" y="10666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24240" y="1066680"/>
            <a:ext cx="14317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10666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9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6840" y="2813040"/>
            <a:ext cx="833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6840" y="2813040"/>
            <a:ext cx="174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1932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ege  produsele numărului  7  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4267080"/>
            <a:ext cx="137160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00200" y="5486400"/>
            <a:ext cx="6858000" cy="838080"/>
          </a:xfrm>
          <a:prstGeom prst="rightArrow">
            <a:avLst>
              <a:gd name="adj1" fmla="val 50000"/>
              <a:gd name="adj2" fmla="val 204575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380880" y="2057400"/>
            <a:ext cx="8534520" cy="1523880"/>
          </a:xfrm>
          <a:custGeom>
            <a:avLst/>
            <a:gdLst>
              <a:gd name="textAreaLeft" fmla="*/ 98640 w 8534520"/>
              <a:gd name="textAreaRight" fmla="*/ 8435880 w 853452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120948" h="21600">
                <a:moveTo>
                  <a:pt x="0" y="0"/>
                </a:moveTo>
                <a:lnTo>
                  <a:pt x="120948" y="0"/>
                </a:lnTo>
                <a:lnTo>
                  <a:pt x="120948" y="21600"/>
                </a:lnTo>
                <a:lnTo>
                  <a:pt x="0" y="21600"/>
                </a:lnTo>
                <a:close/>
              </a:path>
              <a:path fill="lightenLess" w="120948" h="21600">
                <a:moveTo>
                  <a:pt x="0" y="0"/>
                </a:moveTo>
                <a:lnTo>
                  <a:pt x="120948" y="0"/>
                </a:lnTo>
                <a:lnTo>
                  <a:pt x="119548" y="1400"/>
                </a:lnTo>
                <a:lnTo>
                  <a:pt x="1400" y="1400"/>
                </a:lnTo>
                <a:close/>
              </a:path>
              <a:path fill="darken" w="120948" h="21600">
                <a:moveTo>
                  <a:pt x="120948" y="0"/>
                </a:moveTo>
                <a:lnTo>
                  <a:pt x="120948" y="21600"/>
                </a:lnTo>
                <a:lnTo>
                  <a:pt x="119548" y="20200"/>
                </a:lnTo>
                <a:lnTo>
                  <a:pt x="119548" y="1400"/>
                </a:lnTo>
                <a:close/>
              </a:path>
              <a:path fill="darkenLess" w="120948" h="21600">
                <a:moveTo>
                  <a:pt x="12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48" y="20200"/>
                </a:lnTo>
                <a:close/>
              </a:path>
              <a:path fill="lighten" w="12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0948" h="21600">
                <a:moveTo>
                  <a:pt x="53467" y="10800"/>
                </a:moveTo>
                <a:lnTo>
                  <a:pt x="67480" y="3794"/>
                </a:lnTo>
                <a:lnTo>
                  <a:pt x="67480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52480" y="5715000"/>
            <a:ext cx="6477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xerciţiul următor 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71600" y="380880"/>
            <a:ext cx="6781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Încearcă din nou 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719760" y="53341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55960" y="533412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7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53341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5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19760" y="42670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48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55960" y="42670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88040" y="320040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55960" y="320040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320040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19760" y="21337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4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5960" y="213372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3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24240" y="213372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2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88040" y="1066680"/>
            <a:ext cx="14317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3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5960" y="10666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0666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1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6840" y="2813040"/>
            <a:ext cx="833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6840" y="2813040"/>
            <a:ext cx="174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4267080"/>
            <a:ext cx="137160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8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ege  produsele numărului  8  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00200" y="5486400"/>
            <a:ext cx="6858000" cy="838080"/>
          </a:xfrm>
          <a:prstGeom prst="rightArrow">
            <a:avLst>
              <a:gd name="adj1" fmla="val 50000"/>
              <a:gd name="adj2" fmla="val 204575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380880" y="2057400"/>
            <a:ext cx="8534520" cy="1523880"/>
          </a:xfrm>
          <a:custGeom>
            <a:avLst/>
            <a:gdLst>
              <a:gd name="textAreaLeft" fmla="*/ 98640 w 8534520"/>
              <a:gd name="textAreaRight" fmla="*/ 8435880 w 853452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120948" h="21600">
                <a:moveTo>
                  <a:pt x="0" y="0"/>
                </a:moveTo>
                <a:lnTo>
                  <a:pt x="120948" y="0"/>
                </a:lnTo>
                <a:lnTo>
                  <a:pt x="120948" y="21600"/>
                </a:lnTo>
                <a:lnTo>
                  <a:pt x="0" y="21600"/>
                </a:lnTo>
                <a:close/>
              </a:path>
              <a:path fill="lightenLess" w="120948" h="21600">
                <a:moveTo>
                  <a:pt x="0" y="0"/>
                </a:moveTo>
                <a:lnTo>
                  <a:pt x="120948" y="0"/>
                </a:lnTo>
                <a:lnTo>
                  <a:pt x="119548" y="1400"/>
                </a:lnTo>
                <a:lnTo>
                  <a:pt x="1400" y="1400"/>
                </a:lnTo>
                <a:close/>
              </a:path>
              <a:path fill="darken" w="120948" h="21600">
                <a:moveTo>
                  <a:pt x="120948" y="0"/>
                </a:moveTo>
                <a:lnTo>
                  <a:pt x="120948" y="21600"/>
                </a:lnTo>
                <a:lnTo>
                  <a:pt x="119548" y="20200"/>
                </a:lnTo>
                <a:lnTo>
                  <a:pt x="119548" y="1400"/>
                </a:lnTo>
                <a:close/>
              </a:path>
              <a:path fill="darkenLess" w="120948" h="21600">
                <a:moveTo>
                  <a:pt x="12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48" y="20200"/>
                </a:lnTo>
                <a:close/>
              </a:path>
              <a:path fill="lighten" w="12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0948" h="21600">
                <a:moveTo>
                  <a:pt x="53467" y="10800"/>
                </a:moveTo>
                <a:lnTo>
                  <a:pt x="67480" y="3794"/>
                </a:lnTo>
                <a:lnTo>
                  <a:pt x="67480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371600" y="380880"/>
            <a:ext cx="6781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Încearcă din nou 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752480" y="5715000"/>
            <a:ext cx="6477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xerciţiul următor 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19760" y="53341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5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5960" y="42670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88040" y="320040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5960" y="213372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3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5960" y="10666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6840" y="2813040"/>
            <a:ext cx="833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6840" y="2813040"/>
            <a:ext cx="174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ege  produsele numărului  6  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6:18:41Z</dcterms:created>
  <dc:creator>sa</dc:creator>
  <dc:description/>
  <dc:language>en-US</dc:language>
  <cp:lastModifiedBy>sa</cp:lastModifiedBy>
  <dcterms:modified xsi:type="dcterms:W3CDTF">2008-11-17T18:13:29Z</dcterms:modified>
  <cp:revision>4</cp:revision>
  <dc:subject/>
  <dc:title>1. dia</dc:title>
</cp:coreProperties>
</file>